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659-E964-4504-9B3E-55AFF2B3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CF7-A8CB-432E-B243-DB96771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7E6-9150-478F-BE22-7E0AF9E9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BAA-E188-4399-B02E-91EA43D5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5B6-B012-4113-B736-8009911F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ED9-BC33-4E14-8D5E-E8E21C1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57F-A080-4F17-B6A5-C3672D90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C7C-9FF5-48C7-92AD-20F25E4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688-6964-403C-BDF6-D7EDEC3D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0E8-522B-4F8C-A873-B28AA2A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E57-4A0A-4E13-81E0-A633598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B2F-71DE-47D0-98E5-04915D7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12C-2AC6-41E4-A3ED-64B30C4ED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620120" cy="142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εφαρμογή που χρησιμοποιήσαμε είναι το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. Είναι μια εφαρμογή η οποία χρησιμεύει στην σχεδίαση  κτηρίων σε μορφή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ρχικά φτιάξαμε έναν λογαριασμό  στην σελιδα https://planner5d.c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ύ μας δόθηκε η έγκριση αρχίσαμε να φτιάχνουμε το κτήρι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ά προσθέσαμε τα έπιπλα και στην συνέχεια βάλαμε πόρτες και τζάμια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έλος   σχεδιάσαμε τον εξωτερικό  χώρο και προσθέσαμε έπιπλα και φυσικά την πισίν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είναι πολύ  χρήσιμη εφαρμογή στο εκπαιδευτικό σύστημα . αφού μπορεί να χρησιμοποιηθεί στα μαθήματα που έχουν σχέση με το σχέδιο όπως το μαθημα επιλογής της β τάξης και Τα εικαστικά που διδάσκονται  σε όλες τις τάξεις του γυμνασίο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0:17:03Z</dcterms:created>
  <dc:creator>Μαθητής Β' Λυκείου</dc:creator>
  <dc:description/>
  <dc:language>en-US</dc:language>
  <cp:lastModifiedBy>Μαθητής Β' Λυκείου</cp:lastModifiedBy>
  <dcterms:modified xsi:type="dcterms:W3CDTF">2014-01-22T10:16:40Z</dcterms:modified>
  <cp:revision>6</cp:revision>
  <dc:subject/>
  <dc:title>Διαφάνεια 1</dc:title>
</cp:coreProperties>
</file>